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B0C1-EFF1-4702-87F3-C8839941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A17-C7A4-428F-8E53-260D24633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BF9D4-1AB5-4E7A-9411-1B7BA8F01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4778-F8C8-4FFB-AD70-163852F25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BCAB-A2E9-4BEE-A451-00F89914F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25B5-B8E4-4208-AF38-57B187E84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B84-162C-418A-9499-B389D4244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B162-315F-4982-AE55-C31351D13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A9E17-BA0A-42F5-B1CE-59FF2ADB4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B4AB-37C8-4BB5-A536-75154C666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076A-2EF1-4EF6-BC58-D8447BFC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AE50-C31A-41E1-8A03-7F46F2E2A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20FA-A332-4ABA-9D1A-CD58B2619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3651-A418-49C9-8E6E-75B97155E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Round Single Corner Rectangle 6"/>
          <p:cNvSpPr/>
          <p:nvPr/>
        </p:nvSpPr>
        <p:spPr>
          <a:xfrm>
            <a:off x="0" y="6400800"/>
            <a:ext cx="8305920" cy="45720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1143000"/>
            <a:ext cx="830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A626-A23A-4FFB-A6A9-7FC9AC03E4B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1423905857_large.jpg"/>
          <p:cNvPicPr/>
          <p:nvPr/>
        </p:nvPicPr>
        <p:blipFill>
          <a:blip r:embed="rId3"/>
          <a:srcRect l="36372" t="40162" r="56069" b="11634"/>
          <a:stretch/>
        </p:blipFill>
        <p:spPr>
          <a:xfrm>
            <a:off x="8763120" y="2666880"/>
            <a:ext cx="380880" cy="312444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ound Single Corner Rectangle 6"/>
          <p:cNvSpPr/>
          <p:nvPr/>
        </p:nvSpPr>
        <p:spPr>
          <a:xfrm flipH="1">
            <a:off x="4876200" y="6324480"/>
            <a:ext cx="4267080" cy="53352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693432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1447920" cy="1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423905857_large.jpg"/>
          <p:cNvPicPr/>
          <p:nvPr/>
        </p:nvPicPr>
        <p:blipFill>
          <a:blip r:embed="rId4"/>
          <a:srcRect l="12127" t="39980" r="64650" b="11429"/>
          <a:stretch/>
        </p:blipFill>
        <p:spPr>
          <a:xfrm>
            <a:off x="0" y="1219320"/>
            <a:ext cx="175248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1423905857_large.jpg"/>
          <p:cNvPicPr/>
          <p:nvPr/>
        </p:nvPicPr>
        <p:blipFill>
          <a:blip r:embed="rId5"/>
          <a:srcRect l="32739" t="23199" r="0" b="63421"/>
          <a:stretch/>
        </p:blipFill>
        <p:spPr>
          <a:xfrm>
            <a:off x="6858000" y="304920"/>
            <a:ext cx="219384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423905857_large.jpg"/>
          <p:cNvPicPr/>
          <p:nvPr/>
        </p:nvPicPr>
        <p:blipFill>
          <a:blip r:embed="rId6"/>
          <a:srcRect l="36372" t="40162" r="16667" b="11634"/>
          <a:stretch/>
        </p:blipFill>
        <p:spPr>
          <a:xfrm>
            <a:off x="6781680" y="23623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el Tutorial 10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forming What-If Analy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the table (excluding any row or column headings). In the Data Tools group on the Data tab, click the What-If Analysis button, and then click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input values are in the first row, enter the cell reference to the input cell in the Row input cell box; if the input values are in the first column, enter the cell reference to the input cell in the Column input cell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9C5B-40A8-4E77-B726-D9D5FEBA59B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C22-3656-44A3-9013-B378B9CCD1F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625760"/>
            <a:ext cx="868680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-variable data t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s two input cells, but unlike a one variable data table, only the value of a single result cell can be dis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a formula that references the result cell in the upper-left cell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input values in the first row and first column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table (excluding any row or column heading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Data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1A90-31B4-4BB0-8C5F-7667249718D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cell reference corresponding to the input values in the first row in the Row input cell box; enter the cell reference to the input values in the first column in the Column input cell 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3C0-5C13-4648-8D47-16C671497FE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wo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DCE-9193-4FB3-9569-1B42DFA60AA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817640"/>
            <a:ext cx="868680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Manag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bles you to create as many scenarios as you want, easily switching between the different scenarios to display the results of several what-if analy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er the data values in the worksheet for the scen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Scenario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DB31-A0BE-4E6B-BBF5-FACF1E287FD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Add button in the Scenario Manager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cenario name box, type a name for the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hanging cells box, specify the input or changing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cenario Values dialog box, specify values for each of the input cells, clicking the Add button after 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DB4-77EA-45C6-964D-C882AF0DFFF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Scenario 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3F1E-B86D-46A4-9197-8DB2BAB477F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66680" y="1811160"/>
            <a:ext cx="83534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Summar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cenario summary repor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s the values for the changing cells and result cells under each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Scenario Man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Summary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Scenario summary option button to create a scenario summary report (or click the Scenario PivotTable report option to create a PivotTable describing the scenari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 the results cells to display in the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A45-D418-442B-8528-19FA48543FB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Summary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8380-0380-4991-82C8-5FB005BAEE4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1473120"/>
            <a:ext cx="86868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the principles of cost-volume-profit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 a basic what-if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Goal Seek to calculate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one-variable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two-variable data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apply different Excel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9355-554B-4CCB-9F85-DC78B6D0309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PivotTable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PivotTable rep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plays the results from each scenario as a pivo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eld in a Pivot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Data Tools group on the Data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-If Analy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, and then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Mana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mm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enario PivotTable repor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ption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C729-4E15-4312-BDD8-BE9CF0B0B9F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Scenario PivotTable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51CF-6A32-4EDE-9FF3-8304BA1A896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2176560"/>
            <a:ext cx="86868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Price Elasticity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15B9-90AC-4BAD-BDB3-918340E28F7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1865160"/>
            <a:ext cx="86868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Price Elasticity of Dem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ffect that price has on demand is calle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ce elasticity of dem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ly in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ly in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vely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ectly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 elas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039C-F5B3-4068-8CC5-F7F927C498E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ing an Optimal Solution Using Sol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v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program that searches for the optimal solution of a problem involving several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whether Solver is already installed and activated. If it is, Solver will appear in Analysis group on the Data t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ffice Button, and then click the Excel Options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Add-Ins in the left pane, and then click the arrow next to the Manage box and click Excel Add-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Go button to open the Add-Ins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Solver Add-in check box, and then click the OK button. Follow the remaining prompts to install Solver, if it is not already inst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532-BD1F-4FAC-9B5B-704454FBDC0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Solver Parame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Analysis group on the Data tab, click the Solver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Set Target Cell box, specify the targe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he Max, Min, or Value of option buttons to maximize, minimize, or set the target cell to a specified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y Changing Cells input box, specify the changing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68B4-1B3E-4F22-8EA9-AE88348DEF4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Constraints on the Solv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olver Parameters dialog box, click the Add but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the cell reference of the cell or cells containing the constra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y the nature of the constraint (&lt;=, =, &gt;=, int, or b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 the constraint value in the Constraint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he OK button to add the constraint and return to the Solver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each constraint you want to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098C-4970-48FD-AF00-6F0849C63A7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Constraints on the Solver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0C14-4C8F-4448-A446-2EB580C85C7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86868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save a Solver mod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he Solver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ptions button and then click the Save Model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range to contain the parameters of the Solver model, and then 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load a Solver mode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the Solver dialog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ptions button and then click the Load Model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 the range within the current worksheet containing the Solver parameters, and then 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24CA-44D4-4E63-9724-4C2823E428B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A74D-4D40-444B-A733-E2A44ADF9DF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0" y="1638360"/>
            <a:ext cx="8686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 scenario summary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a scenario PivotTabl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the principles of price elast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Solver to calculate optimal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apply constraints to a Solver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and load a Solver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7BC5-6F39-4BE1-AC5B-29A0061D73E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ing and Loading a Solv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0B9-E4BF-45C1-BAFF-FD4261D88A8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1677960"/>
            <a:ext cx="86868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Cost-Volume-Profit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st-volume-profit (CVP) analy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xpresses the relationship between a company’s expenses, its volume of business, and the resulting profit or ne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ble expens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in proportion to the amount of business a company do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xed expen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expense that must be paid regardless of sales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ble expen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art variable and part f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int where revenue equals expenses i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k-even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eak-eve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45E3-F5EA-4B4E-99DC-D8249D43019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derstanding Cost-Volume-Profit Relationsh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E6CE-317E-4F97-9FFD-19D5D5A8AEA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46120" y="1219320"/>
            <a:ext cx="759456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perform what-if analy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the value of a worksheet cell (the input ce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e its impact on one or more calculated cells (the result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perform Goal Se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Data Tools group on the Data tab, click the What-If Analysis button, and then click Goal S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et cell box, select the result cell, and then, in the To value box, specify its value (go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By changing cell box, specify the input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K button. The value of the input cell changes to set the value of the result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9643-4FD3-4A6A-B4B3-D08058D8813B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D0DE-B9AA-42FF-B79A-BE1E6432939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95240" y="2728800"/>
            <a:ext cx="70963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What-If Analysis and Goal S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5F3E-A85A-4289-9477-E6F552093A7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14200" y="1763640"/>
            <a:ext cx="82584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One-Variable Data T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t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the results of several what-if analyses within a singl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a formula that references the input cell in the upper-left cell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 input values in either the first row or first column of the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nput values in the first row, insert formulas referencing result cells in the table’s first column; for input values in the first column, insert formulas referencing result cells in the table’s first 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5307-45C6-49DE-B82E-B20779C773F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lrobbins</cp:lastModifiedBy>
  <dcterms:modified xsi:type="dcterms:W3CDTF">2007-08-13T15:25:08Z</dcterms:modified>
  <cp:revision>122</cp:revision>
  <dc:subject/>
  <dc:title>PowerPoint Presentation</dc:title>
</cp:coreProperties>
</file>